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April 8,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93680" y="1127160"/>
            <a:ext cx="7808760" cy="4971240"/>
            <a:chOff x="1093680" y="1127160"/>
            <a:chExt cx="7808760" cy="4971240"/>
          </a:xfrm>
        </p:grpSpPr>
        <p:sp>
          <p:nvSpPr>
            <p:cNvPr id="89" name=""/>
            <p:cNvSpPr/>
            <p:nvPr/>
          </p:nvSpPr>
          <p:spPr>
            <a:xfrm>
              <a:off x="1093680" y="1127160"/>
              <a:ext cx="7808760" cy="497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51640" y="1127160"/>
              <a:ext cx="7727400" cy="49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31840" y="1150920"/>
            <a:ext cx="765036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.06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 N/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18.03.05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8.03.04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1.04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2.10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5.12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1.06.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75/85 SGL Platform planning has been finished and account has been o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estones are only SW related. S25 has been decl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lead-free soldering – new problems appeared in Phoenix/Sirius B1+ boards with Mozart 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ack of SW resources to assign and fix bugs and to implement CRs (including operator CRs) in time for the DS SW-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otential delay of the PoC and I-mode implementation in CX70 and early X75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AC/MP3-chip with integrated MMC-interface for SGL platform und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high unused stock of key components from R65 generation (SGL, Mozart), careful material management and component allocation to the new SGL products i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nlimited release for SGL with new lead-free package has be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CR “Background audio playing” can not be integrated in Phoenix D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stimated number of critical bugs can only be fixed if bug fixing rate is increased – resources nee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198960"/>
            <a:ext cx="3762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040" y="3257640"/>
            <a:ext cx="195120" cy="20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600" y="3522600"/>
            <a:ext cx="195120" cy="20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600" y="378936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P6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68560" y="1214280"/>
            <a:ext cx="7325640" cy="4707720"/>
            <a:chOff x="1168560" y="1214280"/>
            <a:chExt cx="7325640" cy="4707720"/>
          </a:xfrm>
        </p:grpSpPr>
        <p:sp>
          <p:nvSpPr>
            <p:cNvPr id="98" name=""/>
            <p:cNvSpPr/>
            <p:nvPr/>
          </p:nvSpPr>
          <p:spPr>
            <a:xfrm>
              <a:off x="1168560" y="1214280"/>
              <a:ext cx="7325640" cy="47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2920" y="1214280"/>
              <a:ext cx="7249320" cy="47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292400" y="1322280"/>
            <a:ext cx="705960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1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12.0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10.12.04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.03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3.03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.02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8.02.0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5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VN47 available for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 aligned with Phase II product decl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p up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technical issu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280" y="3894120"/>
            <a:ext cx="195120" cy="20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600" y="36320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7320" y="6477120"/>
            <a:ext cx="36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Claus Dalmose COM MD PD PGG AAL /  11.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hoenix/Sir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4952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enix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08000" y="1063800"/>
            <a:ext cx="7719840" cy="4958280"/>
            <a:chOff x="1008000" y="1063800"/>
            <a:chExt cx="7719840" cy="4958280"/>
          </a:xfrm>
        </p:grpSpPr>
        <p:sp>
          <p:nvSpPr>
            <p:cNvPr id="110" name=""/>
            <p:cNvSpPr/>
            <p:nvPr/>
          </p:nvSpPr>
          <p:spPr>
            <a:xfrm>
              <a:off x="1008000" y="1063800"/>
              <a:ext cx="7719840" cy="49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5240" y="1063800"/>
              <a:ext cx="7639560" cy="49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14480" y="1170000"/>
            <a:ext cx="7567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lestones Phoenix / Siri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4 / 10.06.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9.04 / 03.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10.04 / 05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11.04 / 12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01.05 / 0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.04.05 / 14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t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.05.05 / 2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W Freeze   19.05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5.05 / 25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.05.05 / 02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5 / 28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-Maturity at Operator Approval / 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bug-fixing rate not high enough to reach S3-maturity in time. Resources for approval not ensu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resource situation escalated in PSR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– Resource enhancement still under discussion – fix needed urg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2-SW does not fulfill LCM/Production requirements, - this could block S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irius side keys currently not testable, - could block S25 for Siri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alignment of Phoenix-Joystick =&gt; Countermeasures under Evaluation, looks promi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Free Soldering Process seems not to be stabl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SGold and Mozart improved in drop test significant. Results need to be check in B2 ru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typ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oenix started, no change form B1+ to B2 Layou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" y="2425680"/>
            <a:ext cx="28764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840" y="2697120"/>
            <a:ext cx="144360" cy="144360"/>
          </a:xfrm>
          <a:prstGeom prst="ellipse">
            <a:avLst/>
          </a:prstGeom>
          <a:solidFill>
            <a:srgbClr val="66ff3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288612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94080" y="1444680"/>
            <a:ext cx="111240" cy="115920"/>
            <a:chOff x="3394080" y="1444680"/>
            <a:chExt cx="111240" cy="115920"/>
          </a:xfrm>
        </p:grpSpPr>
        <p:sp>
          <p:nvSpPr>
            <p:cNvPr id="117" name=""/>
            <p:cNvSpPr/>
            <p:nvPr/>
          </p:nvSpPr>
          <p:spPr>
            <a:xfrm>
              <a:off x="3394080" y="15195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41600" y="14446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84720" y="1649520"/>
            <a:ext cx="110520" cy="115920"/>
            <a:chOff x="3384720" y="1649520"/>
            <a:chExt cx="110520" cy="115920"/>
          </a:xfrm>
        </p:grpSpPr>
        <p:sp>
          <p:nvSpPr>
            <p:cNvPr id="120" name=""/>
            <p:cNvSpPr/>
            <p:nvPr/>
          </p:nvSpPr>
          <p:spPr>
            <a:xfrm>
              <a:off x="3384720" y="17244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31880" y="16495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390840" y="1838160"/>
            <a:ext cx="111240" cy="115920"/>
            <a:chOff x="3390840" y="1838160"/>
            <a:chExt cx="111240" cy="115920"/>
          </a:xfrm>
        </p:grpSpPr>
        <p:sp>
          <p:nvSpPr>
            <p:cNvPr id="123" name=""/>
            <p:cNvSpPr/>
            <p:nvPr/>
          </p:nvSpPr>
          <p:spPr>
            <a:xfrm>
              <a:off x="3390840" y="191304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38360" y="183816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89400" y="2043000"/>
            <a:ext cx="110520" cy="115920"/>
            <a:chOff x="3389400" y="2043000"/>
            <a:chExt cx="110520" cy="115920"/>
          </a:xfrm>
        </p:grpSpPr>
        <p:sp>
          <p:nvSpPr>
            <p:cNvPr id="126" name=""/>
            <p:cNvSpPr/>
            <p:nvPr/>
          </p:nvSpPr>
          <p:spPr>
            <a:xfrm>
              <a:off x="3389400" y="211788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36560" y="204300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87600" y="2247840"/>
            <a:ext cx="111240" cy="115920"/>
            <a:chOff x="3387600" y="2247840"/>
            <a:chExt cx="111240" cy="115920"/>
          </a:xfrm>
        </p:grpSpPr>
        <p:sp>
          <p:nvSpPr>
            <p:cNvPr id="129" name=""/>
            <p:cNvSpPr/>
            <p:nvPr/>
          </p:nvSpPr>
          <p:spPr>
            <a:xfrm>
              <a:off x="3387600" y="23227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435120" y="22478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040" y="250524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2840" y="1395360"/>
            <a:ext cx="3906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13160" y="1212840"/>
            <a:ext cx="4214880" cy="18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till feasible, but volumes in June endangered due to missing SW resour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hoenix declared S25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f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Development Cost in cla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41480" y="2640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2840" y="2481120"/>
            <a:ext cx="12852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02840" y="26938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02840" y="2906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92640" y="2442960"/>
            <a:ext cx="110520" cy="115560"/>
            <a:chOff x="3392640" y="2442960"/>
            <a:chExt cx="110520" cy="115560"/>
          </a:xfrm>
        </p:grpSpPr>
        <p:sp>
          <p:nvSpPr>
            <p:cNvPr id="139" name=""/>
            <p:cNvSpPr/>
            <p:nvPr/>
          </p:nvSpPr>
          <p:spPr>
            <a:xfrm>
              <a:off x="3392640" y="25182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39800" y="2442960"/>
              <a:ext cx="63360" cy="1155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27360" y="1430280"/>
            <a:ext cx="111240" cy="115920"/>
            <a:chOff x="3627360" y="1430280"/>
            <a:chExt cx="111240" cy="115920"/>
          </a:xfrm>
        </p:grpSpPr>
        <p:sp>
          <p:nvSpPr>
            <p:cNvPr id="142" name=""/>
            <p:cNvSpPr/>
            <p:nvPr/>
          </p:nvSpPr>
          <p:spPr>
            <a:xfrm>
              <a:off x="3627360" y="15051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74880" y="14302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13320" y="1635120"/>
            <a:ext cx="110520" cy="115920"/>
            <a:chOff x="3613320" y="1635120"/>
            <a:chExt cx="110520" cy="115920"/>
          </a:xfrm>
        </p:grpSpPr>
        <p:sp>
          <p:nvSpPr>
            <p:cNvPr id="145" name=""/>
            <p:cNvSpPr/>
            <p:nvPr/>
          </p:nvSpPr>
          <p:spPr>
            <a:xfrm>
              <a:off x="3613320" y="17100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660480" y="16351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13320" y="1844640"/>
            <a:ext cx="110520" cy="115920"/>
            <a:chOff x="3613320" y="1844640"/>
            <a:chExt cx="110520" cy="115920"/>
          </a:xfrm>
        </p:grpSpPr>
        <p:sp>
          <p:nvSpPr>
            <p:cNvPr id="148" name=""/>
            <p:cNvSpPr/>
            <p:nvPr/>
          </p:nvSpPr>
          <p:spPr>
            <a:xfrm>
              <a:off x="3613320" y="191952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660480" y="184464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13320" y="2035080"/>
            <a:ext cx="110520" cy="115920"/>
            <a:chOff x="3613320" y="2035080"/>
            <a:chExt cx="110520" cy="115920"/>
          </a:xfrm>
        </p:grpSpPr>
        <p:sp>
          <p:nvSpPr>
            <p:cNvPr id="151" name=""/>
            <p:cNvSpPr/>
            <p:nvPr/>
          </p:nvSpPr>
          <p:spPr>
            <a:xfrm>
              <a:off x="3613320" y="210996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60480" y="203508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03600" y="2235240"/>
            <a:ext cx="111240" cy="115920"/>
            <a:chOff x="3603600" y="2235240"/>
            <a:chExt cx="111240" cy="115920"/>
          </a:xfrm>
        </p:grpSpPr>
        <p:sp>
          <p:nvSpPr>
            <p:cNvPr id="154" name=""/>
            <p:cNvSpPr/>
            <p:nvPr/>
          </p:nvSpPr>
          <p:spPr>
            <a:xfrm>
              <a:off x="3603600" y="23101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51120" y="22352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Ado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68560" y="1306440"/>
            <a:ext cx="7325640" cy="4790160"/>
            <a:chOff x="1168560" y="1306440"/>
            <a:chExt cx="7325640" cy="4790160"/>
          </a:xfrm>
        </p:grpSpPr>
        <p:sp>
          <p:nvSpPr>
            <p:cNvPr id="158" name=""/>
            <p:cNvSpPr/>
            <p:nvPr/>
          </p:nvSpPr>
          <p:spPr>
            <a:xfrm>
              <a:off x="1168560" y="1306440"/>
              <a:ext cx="7325640" cy="479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2920" y="1306440"/>
              <a:ext cx="7249320" cy="47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97000" y="1430280"/>
            <a:ext cx="726912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: 22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5.10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:   16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31.03.05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: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: 29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01.11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: 27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4: 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: 10.12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3.12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:   30.05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:   08.08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SD failure when camera is in view find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YD is the single supplier for major components LCD and FPC – quality risk in mas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test cycle time is quite high (because Adonis is the first clamshell supporting came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SD failure of display (during viewfinder mode) – potential solution found, feasibility under invest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 SW frozen according to plan and delivered to 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rt Call” production test failure has been s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tic-load test failed, the improvement is on 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T will be 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ototyp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1+.1 boards available, B1+.2 will start next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test cycle time is quite high (because Adonis is the first clamshell supporting came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ixture for CT is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1173240"/>
            <a:ext cx="7400880" cy="53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High/Low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-icons implemented in BL196 (incl. new bootcore for SCOUT to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VF-SW for ARIE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IES variants based on 100% CAD data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 few numbers of 1st B1+ devices delivered because customer test &amp; production SW not 100%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tronics VGA camera supplier announced delay for B2 samples &gt;&gt; BB &amp; SP involved; new timeline negotiated but at high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lextronics VGA camera supplier announced delay for B2 samples &gt;&gt; BB &amp; SP involved; new timeline negotiated but at high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bug fixing rate may become not sufficient (to few resources, not enough experience in SW BE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Handling of ClearQuest is not properly (no resource/experience to assign new bugs to components)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&gt;&gt; Switch to silver-copper EMI painting decided; spec conformity of JIGs/metallization area to be confi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LPS display broken during droptests; counter measures does not fix the problems (although Minos, Phoenix, Sirius are ok n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ppercase breaks during drop test &gt;&gt; mould flow analysis checked, countermeasures initi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98560" y="3139920"/>
            <a:ext cx="28728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57240" y="321156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3411360"/>
            <a:ext cx="14436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724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is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20680" y="1220760"/>
            <a:ext cx="7326000" cy="4888440"/>
            <a:chOff x="1120680" y="1220760"/>
            <a:chExt cx="7326000" cy="4888440"/>
          </a:xfrm>
        </p:grpSpPr>
        <p:sp>
          <p:nvSpPr>
            <p:cNvPr id="175" name=""/>
            <p:cNvSpPr/>
            <p:nvPr/>
          </p:nvSpPr>
          <p:spPr>
            <a:xfrm>
              <a:off x="1120680" y="1220760"/>
              <a:ext cx="7326000" cy="488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75040" y="1220760"/>
              <a:ext cx="7249680" cy="48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181160" y="1341360"/>
            <a:ext cx="726912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4.03.05 -&gt;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3.03.05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2.07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08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4.03.05 -&gt;  14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5.01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21.04.05 -&gt; 29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01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2.02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and S0 shifted due to change to 1.3MPix camera / TFT-display and additional necessary surface design modifications. M0 Declaration is also blocked by SAR value risk – red Q-Gate 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 Declaration is currently blocked by introduction of new Epson 758 and SAR valu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may be affected due to introduction of new Epson 758, new planning ongo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FT display and camera schedule are very risky. B1 samples only available in time for B1+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of Epson 732 by 758 chip requires additional qualification time and effort; if first samples of Epson 758 are delayed, complete project will be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cost reasons it is necessary to replace the Epson 732 video chip by the Epson 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w.r.t.  Adonis: Liftpart PCB (Epson 758), display, camera, hinge flex, antenna, housing,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PC technology might be required to avoid ESD risk (as currently observed in Ado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of Epson 758 based drivers for MPix-Camera and the TFT-display under cla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30400" y="1319040"/>
            <a:ext cx="7326000" cy="5126760"/>
            <a:chOff x="1130400" y="1319040"/>
            <a:chExt cx="7326000" cy="5126760"/>
          </a:xfrm>
        </p:grpSpPr>
        <p:sp>
          <p:nvSpPr>
            <p:cNvPr id="184" name=""/>
            <p:cNvSpPr/>
            <p:nvPr/>
          </p:nvSpPr>
          <p:spPr>
            <a:xfrm>
              <a:off x="1130400" y="1319040"/>
              <a:ext cx="7326000" cy="512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84760" y="1319040"/>
              <a:ext cx="7249680" cy="51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158840" y="1468440"/>
            <a:ext cx="7269120" cy="50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4.05 =&gt; 12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14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6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4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28.02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3.06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0.01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28.03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 shift of DS in official M0 planning by 4 working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not reached in plan, only one blocking point which is expected to be solved a few day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ase is still negative (-1.5 Euro per de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TO dependent on SACC-X sample availability =&gt; if delayed, complete project i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AAC-Chip (SACC-X) with included SD-Interface and 26MHz SPI. Schedule risky but fea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BB shielding to be developed as planned G85 vibra will not be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one-time effort  for support of Nano-I/O, AAC chip with SD interface, display IF not via video c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ign/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surface ID re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of new BB shielding required fo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213360" y="1050480"/>
            <a:ext cx="508680" cy="5654160"/>
            <a:chOff x="3213360" y="1050480"/>
            <a:chExt cx="508680" cy="5654160"/>
          </a:xfrm>
        </p:grpSpPr>
        <p:sp>
          <p:nvSpPr>
            <p:cNvPr id="192" name=""/>
            <p:cNvSpPr/>
            <p:nvPr/>
          </p:nvSpPr>
          <p:spPr>
            <a:xfrm flipV="1">
              <a:off x="3477960" y="1050480"/>
              <a:ext cx="0" cy="547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13360" y="6480000"/>
              <a:ext cx="508680" cy="22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che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4581360"/>
            <a:ext cx="576000" cy="503280"/>
          </a:xfrm>
          <a:custGeom>
            <a:avLst/>
            <a:gdLst>
              <a:gd name="textAreaLeft" fmla="*/ 0 w 576000"/>
              <a:gd name="textAreaRight" fmla="*/ 576000 w 57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67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258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16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5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68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45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5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38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14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818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61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48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24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105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01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98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774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64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67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258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16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5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68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45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5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338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14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18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61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6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105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01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98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774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964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839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87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01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123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250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298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26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3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7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771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98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11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200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24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37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8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67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72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84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60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228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27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403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512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40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68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1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92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25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900000">
            <a:off x="-52560" y="1628280"/>
            <a:ext cx="88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8900000">
            <a:off x="36360" y="2247480"/>
            <a:ext cx="1151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ype Approval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&amp;TTE, GC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CETE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8900000">
            <a:off x="-360" y="4126680"/>
            <a:ext cx="872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900000">
            <a:off x="9720" y="4852800"/>
            <a:ext cx="73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8900000">
            <a:off x="169560" y="5527440"/>
            <a:ext cx="78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8900000">
            <a:off x="13320" y="3331800"/>
            <a:ext cx="78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510920"/>
            <a:ext cx="42840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M1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1.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88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0872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4836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0108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4148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3232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3124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7636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15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4.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9120" y="1557360"/>
            <a:ext cx="15048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5840" y="1510920"/>
            <a:ext cx="42840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2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1.0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418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386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25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20.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96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3.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596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564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3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8.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5164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P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5.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88840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512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9.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05360" y="2278080"/>
            <a:ext cx="2583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R&amp;TTE, GCF, F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Acoustic / SAR&amp;EMC&amp;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67280" y="2954160"/>
            <a:ext cx="57600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Golden </a:t>
            </a:r>
            <a:br>
              <a:rPr sz="1000"/>
            </a:b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278080"/>
            <a:ext cx="172872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ternal Pr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80000" y="2666880"/>
            <a:ext cx="57600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ilver</a:t>
            </a:r>
            <a:br>
              <a:rPr sz="1000"/>
            </a:b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3351240"/>
            <a:ext cx="172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2-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36000" y="3338640"/>
            <a:ext cx="288720" cy="28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12000" y="3338640"/>
            <a:ext cx="1224000" cy="287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amp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09080" y="3127320"/>
            <a:ext cx="225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59280" y="3363840"/>
            <a:ext cx="115236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1+ 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3357720"/>
            <a:ext cx="12970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1 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11560" y="3678120"/>
            <a:ext cx="604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1+</a:t>
            </a:r>
            <a:br>
              <a:rPr sz="1000"/>
            </a:b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Tap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2545560" y="339408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11560" y="3222720"/>
            <a:ext cx="604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7.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78000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36920" y="3678120"/>
            <a:ext cx="604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2</a:t>
            </a:r>
            <a:br>
              <a:rPr sz="1000"/>
            </a:b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Tap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571280" y="339408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36920" y="3222720"/>
            <a:ext cx="604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04.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95360" y="4218120"/>
            <a:ext cx="733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Fast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8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1694880" y="393300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4218120"/>
            <a:ext cx="87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Fast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547360" y="393300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03400" y="4226040"/>
            <a:ext cx="87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1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13308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88000" y="4226040"/>
            <a:ext cx="876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2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4908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5240" y="4202280"/>
            <a:ext cx="1226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3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„cosmetic only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745092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643280" y="26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9640" y="4724280"/>
            <a:ext cx="7336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B1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82944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0984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B1+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269964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51400" y="5121360"/>
            <a:ext cx="733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tart z-IDB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41920" y="4932360"/>
            <a:ext cx="15048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05120" y="4724280"/>
            <a:ext cx="7336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25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99492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7280" y="4906800"/>
            <a:ext cx="865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25 s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0876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3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629856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906800"/>
            <a:ext cx="1440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3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906800"/>
            <a:ext cx="865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3 s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37440" y="4906800"/>
            <a:ext cx="71928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DS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5504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DS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67016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06920" y="6127920"/>
            <a:ext cx="11523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1st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max. 15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43564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43640" y="6127920"/>
            <a:ext cx="1025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3rd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87708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27640" y="515772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85400" y="508464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Weekly SW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z-ID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5080" y="515772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26600" y="51721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72360" y="4746600"/>
            <a:ext cx="9874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1840" y="5589720"/>
            <a:ext cx="86508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est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06920" y="5589720"/>
            <a:ext cx="1440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s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46920" y="5589720"/>
            <a:ext cx="11541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Delta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1080" y="558972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57200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23000" y="6195960"/>
            <a:ext cx="11858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2nd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01684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15160" y="6195960"/>
            <a:ext cx="757440" cy="18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VF-DS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2280" y="1844640"/>
            <a:ext cx="1079640" cy="21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S4/M3 </a:t>
            </a:r>
            <a:r>
              <a:rPr b="0" i="1" lang="en-US" sz="1000" spc="-1" strike="noStrike">
                <a:solidFill>
                  <a:srgbClr val="cc3300"/>
                </a:solidFill>
                <a:latin typeface="Arial"/>
              </a:rPr>
              <a:t>30.0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2080" y="4405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1560" y="1447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43000" y="30114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1040" y="3843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03520" y="3313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03520" y="3843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9040" y="44370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92480" y="14684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27160" y="14684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76640" y="3851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4-11T06:21:32Z</dcterms:modified>
  <cp:revision>727</cp:revision>
  <dc:subject/>
  <dc:title>PowerPoint Presentation</dc:title>
</cp:coreProperties>
</file>